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31E-9B9B-4087-A7BE-E879ABAC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16C-EAE6-4575-BD98-3D78087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0CF-BF7A-47AE-8F9B-33360749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2BB-B88F-4D41-A0A7-CED9F204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5C9-82FB-4B2D-8D15-1536CD64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A6AE-EECE-4129-971B-7007CE3E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E28D-8774-4EED-9013-6571981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9EC-71B4-4941-A6B4-F994498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454B-03BF-4982-A05B-9F65B86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9B8F-47DF-49E0-BEE4-01F190A4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528A-45C3-465F-9A2B-C424E60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478-70F1-4EDB-ACBC-3CD5DE8F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0675-D63A-47A0-BA71-6A3EB34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3D07-461B-4E90-ADAE-827A008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A35-3CF5-46B8-8EAF-1334A3FB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3BC3-9FB4-4648-92B9-BDEE3F0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BBA0-FAA5-4657-9CC8-94E477A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085-0177-46C9-84C8-143F4D2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09C-81D7-4E3A-8666-E9446387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C73-39BD-4978-B707-7EEC6F3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AEB-DA3A-4B1C-B232-EE41686D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A51-3B88-4E0E-8CC0-0DDB270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C65-9FC2-480E-B92A-3C654E14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98C-C3A5-49B6-885C-964D7CF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C099-AAD2-4BBA-B9BC-58B59A66CC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F30-2F5B-47F9-8710-1BE802B622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27_tolerantnost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Выступления учащихс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160967"/>
          <p:cNvPicPr/>
          <p:nvPr/>
        </p:nvPicPr>
        <p:blipFill>
          <a:blip r:embed="rId1"/>
          <a:stretch/>
        </p:blipFill>
        <p:spPr>
          <a:xfrm>
            <a:off x="1828800" y="1752480"/>
            <a:ext cx="49528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bezyimyannyiy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SAM_0728"/>
          <p:cNvPicPr/>
          <p:nvPr/>
        </p:nvPicPr>
        <p:blipFill>
          <a:blip r:embed="rId1"/>
          <a:stretch/>
        </p:blipFill>
        <p:spPr>
          <a:xfrm>
            <a:off x="3352680" y="0"/>
            <a:ext cx="180036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максим"/>
          <p:cNvPicPr/>
          <p:nvPr/>
        </p:nvPicPr>
        <p:blipFill>
          <a:blip r:embed="rId2"/>
          <a:stretch/>
        </p:blipFill>
        <p:spPr>
          <a:xfrm>
            <a:off x="5334120" y="152280"/>
            <a:ext cx="3543120" cy="312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Счастливая Яна))"/>
          <p:cNvPicPr/>
          <p:nvPr/>
        </p:nvPicPr>
        <p:blipFill>
          <a:blip r:embed="rId3"/>
          <a:stretch/>
        </p:blipFill>
        <p:spPr>
          <a:xfrm>
            <a:off x="1066680" y="2790720"/>
            <a:ext cx="2895840" cy="406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Метро"/>
          <p:cNvPicPr/>
          <p:nvPr/>
        </p:nvPicPr>
        <p:blipFill>
          <a:blip r:embed="rId4"/>
          <a:stretch/>
        </p:blipFill>
        <p:spPr>
          <a:xfrm>
            <a:off x="4191120" y="3733920"/>
            <a:ext cx="4724280" cy="2576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Лера"/>
          <p:cNvPicPr/>
          <p:nvPr/>
        </p:nvPicPr>
        <p:blipFill>
          <a:blip r:embed="rId5"/>
          <a:stretch/>
        </p:blipFill>
        <p:spPr>
          <a:xfrm>
            <a:off x="380880" y="304920"/>
            <a:ext cx="26672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4f7bcedf4b85582ecae47c22e0ce1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586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Наш класс дружный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80880" y="22860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ша Родина-Россия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живём дру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267080" y="12193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терпимы друг к друг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милосердные, добрые, справедли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A0D9E27-5655-49A4-94CF-8BC299221ED8_mw800_mh600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ный час.</a:t>
            </a:r>
            <a:br>
              <a:rPr sz="3200"/>
            </a:br>
            <a:r>
              <a:rPr b="1" i="1" lang="ru-RU" sz="3200" spc="-1" strike="noStrike" u="sng">
                <a:solidFill>
                  <a:srgbClr val="891411"/>
                </a:solidFill>
                <a:uFillTx/>
                <a:latin typeface="Times New Roman"/>
              </a:rPr>
              <a:t>Толерантность-путь к ми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ЛЕРАНТНОСТЬ – ЛИЧНОСТНОЕ КАЧЕСТВО ЧЕЛОВЕКА В СОВРЕМЕННОМ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ли и задачи классного ча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овать у себя культуру толерантн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чувство уважения друг к другу, к обычаям, традициям и культуре разных на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 себя критическое мышление, навыки групповой работы, умение вести диалог и аргументировать свою пози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активными, твор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Этимология понятия толерантность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917e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800" spc="-1" strike="noStrike" u="sng">
                <a:solidFill>
                  <a:srgbClr val="891411"/>
                </a:solidFill>
                <a:uFillTx/>
                <a:latin typeface="Arial"/>
              </a:rPr>
              <a:t>русском язы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способность, </a:t>
            </a:r>
            <a:r>
              <a:rPr b="1" i="1" lang="ru-RU" sz="2800" spc="-1" strike="noStrike">
                <a:solidFill>
                  <a:srgbClr val="007a00"/>
                </a:solidFill>
                <a:latin typeface="Arial"/>
              </a:rPr>
              <a:t>умение терпеть, мирится с чужим мнением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быть снисходительным к поступкам других людей, мягко относиться к их промахам,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 Даль отмечает, что по смыслу толерантность связана с такими человеческими качествами как </a:t>
            </a:r>
            <a:r>
              <a:rPr b="1" i="1" lang="ru-RU" sz="2800" spc="-1" strike="noStrike">
                <a:solidFill>
                  <a:srgbClr val="007a00"/>
                </a:solidFill>
                <a:latin typeface="Arial"/>
              </a:rPr>
              <a:t>смирение, кротость, снисходительность, великоду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tol2%20(3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197407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Пётр Иранович Багратион(2)"/>
          <p:cNvPicPr/>
          <p:nvPr/>
        </p:nvPicPr>
        <p:blipFill>
          <a:blip r:embed="rId1"/>
          <a:stretch/>
        </p:blipFill>
        <p:spPr>
          <a:xfrm>
            <a:off x="152280" y="609480"/>
            <a:ext cx="25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Владимир Иванович Даль"/>
          <p:cNvPicPr/>
          <p:nvPr/>
        </p:nvPicPr>
        <p:blipFill>
          <a:blip r:embed="rId2"/>
          <a:stretch/>
        </p:blipFill>
        <p:spPr>
          <a:xfrm>
            <a:off x="6553080" y="609480"/>
            <a:ext cx="2465640" cy="289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Циолковский Константин Эдуардович(2)"/>
          <p:cNvPicPr/>
          <p:nvPr/>
        </p:nvPicPr>
        <p:blipFill>
          <a:blip r:embed="rId3"/>
          <a:stretch/>
        </p:blipFill>
        <p:spPr>
          <a:xfrm>
            <a:off x="762120" y="4038480"/>
            <a:ext cx="354312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32767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ётр Баграти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733920" y="64771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брам Петрович Ганниб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705720" y="35053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 Д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990720" y="647712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тантин Циолк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200px-Avgust_de_Monpherran"/>
          <p:cNvPicPr/>
          <p:nvPr/>
        </p:nvPicPr>
        <p:blipFill>
          <a:blip r:embed="rId4"/>
          <a:stretch/>
        </p:blipFill>
        <p:spPr>
          <a:xfrm>
            <a:off x="6324480" y="403848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5943600" y="640080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юст Монферр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Абрам ИбрагимПетрович Ганнибал"/>
          <p:cNvPicPr/>
          <p:nvPr/>
        </p:nvPicPr>
        <p:blipFill>
          <a:blip r:embed="rId5"/>
          <a:stretch/>
        </p:blipFill>
        <p:spPr>
          <a:xfrm>
            <a:off x="4114800" y="38862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3505320" y="380880"/>
            <a:ext cx="1981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f6556f3da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SAM_1385"/>
          <p:cNvPicPr/>
          <p:nvPr/>
        </p:nvPicPr>
        <p:blipFill>
          <a:blip r:embed="rId2"/>
          <a:stretch/>
        </p:blipFill>
        <p:spPr>
          <a:xfrm>
            <a:off x="2819520" y="99072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SAM_1390"/>
          <p:cNvPicPr/>
          <p:nvPr/>
        </p:nvPicPr>
        <p:blipFill>
          <a:blip r:embed="rId3"/>
          <a:stretch/>
        </p:blipFill>
        <p:spPr>
          <a:xfrm>
            <a:off x="533520" y="3049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AM_0739"/>
          <p:cNvPicPr/>
          <p:nvPr/>
        </p:nvPicPr>
        <p:blipFill>
          <a:blip r:embed="rId4"/>
          <a:stretch/>
        </p:blipFill>
        <p:spPr>
          <a:xfrm>
            <a:off x="6095880" y="4876920"/>
            <a:ext cx="28958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Tolerantnost_512x3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лосердие-это сочувствие, любовь на деле, готовность делать добро каж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5-10-22T08:21:5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