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643-3E8E-486D-8D28-28CBA721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31F-9B7F-4FAE-9E56-F431F23A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EEB-078D-45F9-87C9-26F40E12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828-3674-4213-AFD5-81E5B6D4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A3B-0356-4EB8-9387-A4C576BF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1D7-9989-4873-867F-EEECFE7A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013-751F-4598-A702-15A88C46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2C2-BC4C-4C83-9507-4F06AD51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B2D-C84C-4BF6-9BCB-9A9B7567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10C-B13D-403C-A097-171B963C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A6B-1961-4583-842B-53FCE99C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07F-5B0F-488C-99C5-2A4F58E8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00ff00"/>
            </a:gs>
            <a:gs pos="100000">
              <a:srgbClr val="00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8261-9461-4CCE-AABE-5D7D70AF10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Gala\Мои документы\КВН\1323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35280" y="1268280"/>
            <a:ext cx="5688000" cy="4105440"/>
          </a:xfrm>
          <a:prstGeom prst="rect">
            <a:avLst/>
          </a:prstGeom>
          <a:ln w="28440">
            <a:solidFill>
              <a:srgbClr val="1f6901"/>
            </a:solidFill>
            <a:miter/>
          </a:ln>
          <a:effectLst>
            <a:outerShdw dist="107932" dir="2700000" blurRad="0" rotWithShape="0">
              <a:srgbClr val="154701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1817280" y="457200"/>
            <a:ext cx="73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c9900"/>
                </a:solidFill>
                <a:uFillTx/>
                <a:latin typeface="Times New Roman"/>
              </a:rPr>
              <a:t>По началу текста определи, какой это текс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87000" y="144792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-то раз подложили утке куриное яйцо. Вылупилис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ята,и повела их утка на пруд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215720" y="279252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cc9900"/>
                </a:solidFill>
                <a:uFillTx/>
                <a:latin typeface="Times New Roman"/>
              </a:rPr>
              <a:t>Варианты ответ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611280" y="3429000"/>
            <a:ext cx="31240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lin ang="2700000"/>
          </a:gradFill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-опис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>
            <a:hlinkClick r:id="" action="ppaction://hlinkshowjump?jump=nextslide"/>
          </p:cNvPr>
          <p:cNvSpPr/>
          <p:nvPr/>
        </p:nvSpPr>
        <p:spPr>
          <a:xfrm>
            <a:off x="755640" y="5229360"/>
            <a:ext cx="31240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lin ang="2700000"/>
          </a:gradFill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-повеств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5" descr="C:\Documents and Settings\Gala\Мои документы\КВН\1323.jpg"/>
          <p:cNvPicPr/>
          <p:nvPr/>
        </p:nvPicPr>
        <p:blipFill>
          <a:blip r:embed="rId1"/>
          <a:stretch/>
        </p:blipFill>
        <p:spPr>
          <a:xfrm>
            <a:off x="0" y="0"/>
            <a:ext cx="1600200" cy="1200240"/>
          </a:xfrm>
          <a:prstGeom prst="rect">
            <a:avLst/>
          </a:prstGeom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9900"/>
            </a:outerShdw>
          </a:effectLst>
        </p:spPr>
      </p:pic>
      <p:sp>
        <p:nvSpPr>
          <p:cNvPr id="48" name="AutoShape 16">
            <a:hlinkClick r:id="" action="ppaction://hlinkshowjump?jump=firstslide"/>
          </p:cNvPr>
          <p:cNvSpPr/>
          <p:nvPr/>
        </p:nvSpPr>
        <p:spPr>
          <a:xfrm>
            <a:off x="78487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288880" y="2438280"/>
            <a:ext cx="43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ьный ответ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696080" y="6019920"/>
            <a:ext cx="1067040" cy="609480"/>
          </a:xfrm>
          <a:custGeom>
            <a:avLst/>
            <a:gdLst>
              <a:gd name="textAreaLeft" fmla="*/ 39240 w 1067040"/>
              <a:gd name="textAreaRight" fmla="*/ 1027800 w 1067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806" h="21600">
                <a:moveTo>
                  <a:pt x="0" y="0"/>
                </a:moveTo>
                <a:lnTo>
                  <a:pt x="37806" y="0"/>
                </a:lnTo>
                <a:lnTo>
                  <a:pt x="37806" y="21600"/>
                </a:lnTo>
                <a:lnTo>
                  <a:pt x="0" y="21600"/>
                </a:lnTo>
                <a:close/>
              </a:path>
              <a:path fill="lightenLess" w="37806" h="21600">
                <a:moveTo>
                  <a:pt x="0" y="0"/>
                </a:moveTo>
                <a:lnTo>
                  <a:pt x="37806" y="0"/>
                </a:lnTo>
                <a:lnTo>
                  <a:pt x="36406" y="1400"/>
                </a:lnTo>
                <a:lnTo>
                  <a:pt x="1400" y="1400"/>
                </a:lnTo>
                <a:close/>
              </a:path>
              <a:path fill="darken" w="37806" h="21600">
                <a:moveTo>
                  <a:pt x="37806" y="0"/>
                </a:moveTo>
                <a:lnTo>
                  <a:pt x="37806" y="21600"/>
                </a:lnTo>
                <a:lnTo>
                  <a:pt x="36406" y="20200"/>
                </a:lnTo>
                <a:lnTo>
                  <a:pt x="36406" y="1400"/>
                </a:lnTo>
                <a:close/>
              </a:path>
              <a:path fill="darkenLess" w="37806" h="21600">
                <a:moveTo>
                  <a:pt x="37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6" y="20200"/>
                </a:lnTo>
                <a:close/>
              </a:path>
              <a:path fill="lighten" w="37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6" h="21600">
                <a:moveTo>
                  <a:pt x="11897" y="3794"/>
                </a:moveTo>
                <a:lnTo>
                  <a:pt x="25910" y="10800"/>
                </a:lnTo>
                <a:lnTo>
                  <a:pt x="11897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640" y="1600200"/>
            <a:ext cx="81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 нравится наша кошка. У неё пушистый хвостик. Глаз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ленькие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682280" y="457200"/>
            <a:ext cx="73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c9900"/>
                </a:solidFill>
                <a:uFillTx/>
                <a:latin typeface="Times New Roman"/>
              </a:rPr>
              <a:t>По началу текста определи, какой это текс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215720" y="279252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cc9900"/>
                </a:solidFill>
                <a:uFillTx/>
                <a:latin typeface="Times New Roman"/>
              </a:rPr>
              <a:t>Варианты ответ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>
            <a:hlinkClick r:id="" action="ppaction://hlinkshowjump?jump=nextslide"/>
          </p:cNvPr>
          <p:cNvSpPr/>
          <p:nvPr/>
        </p:nvSpPr>
        <p:spPr>
          <a:xfrm>
            <a:off x="762120" y="3505320"/>
            <a:ext cx="31240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lin ang="2700000"/>
          </a:gradFill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-опис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755640" y="5013360"/>
            <a:ext cx="31240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lin ang="2700000"/>
          </a:gradFill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-повеств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2" descr="C:\Documents and Settings\Gala\Мои документы\КВН\1323.jpg"/>
          <p:cNvPicPr/>
          <p:nvPr/>
        </p:nvPicPr>
        <p:blipFill>
          <a:blip r:embed="rId1"/>
          <a:stretch/>
        </p:blipFill>
        <p:spPr>
          <a:xfrm>
            <a:off x="0" y="0"/>
            <a:ext cx="1600200" cy="1200240"/>
          </a:xfrm>
          <a:prstGeom prst="rect">
            <a:avLst/>
          </a:prstGeom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990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88880" y="2438280"/>
            <a:ext cx="43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ьный ответ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">
            <a:hlinkClick r:id="" action="ppaction://hlinkshowjump?jump=nextslide"/>
          </p:cNvPr>
          <p:cNvSpPr/>
          <p:nvPr/>
        </p:nvSpPr>
        <p:spPr>
          <a:xfrm>
            <a:off x="7696080" y="6019920"/>
            <a:ext cx="1067040" cy="609480"/>
          </a:xfrm>
          <a:custGeom>
            <a:avLst/>
            <a:gdLst>
              <a:gd name="textAreaLeft" fmla="*/ 39240 w 1067040"/>
              <a:gd name="textAreaRight" fmla="*/ 1027800 w 1067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806" h="21600">
                <a:moveTo>
                  <a:pt x="0" y="0"/>
                </a:moveTo>
                <a:lnTo>
                  <a:pt x="37806" y="0"/>
                </a:lnTo>
                <a:lnTo>
                  <a:pt x="37806" y="21600"/>
                </a:lnTo>
                <a:lnTo>
                  <a:pt x="0" y="21600"/>
                </a:lnTo>
                <a:close/>
              </a:path>
              <a:path fill="lightenLess" w="37806" h="21600">
                <a:moveTo>
                  <a:pt x="0" y="0"/>
                </a:moveTo>
                <a:lnTo>
                  <a:pt x="37806" y="0"/>
                </a:lnTo>
                <a:lnTo>
                  <a:pt x="36406" y="1400"/>
                </a:lnTo>
                <a:lnTo>
                  <a:pt x="1400" y="1400"/>
                </a:lnTo>
                <a:close/>
              </a:path>
              <a:path fill="darken" w="37806" h="21600">
                <a:moveTo>
                  <a:pt x="37806" y="0"/>
                </a:moveTo>
                <a:lnTo>
                  <a:pt x="37806" y="21600"/>
                </a:lnTo>
                <a:lnTo>
                  <a:pt x="36406" y="20200"/>
                </a:lnTo>
                <a:lnTo>
                  <a:pt x="36406" y="1400"/>
                </a:lnTo>
                <a:close/>
              </a:path>
              <a:path fill="darkenLess" w="37806" h="21600">
                <a:moveTo>
                  <a:pt x="37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6" y="20200"/>
                </a:lnTo>
                <a:close/>
              </a:path>
              <a:path fill="lighten" w="37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6" h="21600">
                <a:moveTo>
                  <a:pt x="11897" y="3794"/>
                </a:moveTo>
                <a:lnTo>
                  <a:pt x="25910" y="10800"/>
                </a:lnTo>
                <a:lnTo>
                  <a:pt x="11897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0440" y="1523880"/>
            <a:ext cx="82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ему нашего щенка зовут Шарик. Потому что издалека 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ется пушистым шариком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817280" y="533520"/>
            <a:ext cx="73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c9900"/>
                </a:solidFill>
                <a:uFillTx/>
                <a:latin typeface="Times New Roman"/>
              </a:rPr>
              <a:t>По началу текста определи, какой это текс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15720" y="279252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cc9900"/>
                </a:solidFill>
                <a:uFillTx/>
                <a:latin typeface="Times New Roman"/>
              </a:rPr>
              <a:t>Варианты ответ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62120" y="3505320"/>
            <a:ext cx="31240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lin ang="2700000"/>
          </a:gradFill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-опис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>
            <a:hlinkClick r:id="" action="ppaction://hlinkshowjump?jump=nextslide"/>
          </p:cNvPr>
          <p:cNvSpPr/>
          <p:nvPr/>
        </p:nvSpPr>
        <p:spPr>
          <a:xfrm>
            <a:off x="4788000" y="4365720"/>
            <a:ext cx="312408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lin ang="2700000"/>
          </a:gradFill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-рассу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900000" y="5157720"/>
            <a:ext cx="31244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lin ang="2700000"/>
          </a:gradFill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-повеств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2" descr="C:\Documents and Settings\Gala\Мои документы\КВН\1323.jpg"/>
          <p:cNvPicPr/>
          <p:nvPr/>
        </p:nvPicPr>
        <p:blipFill>
          <a:blip r:embed="rId1"/>
          <a:stretch/>
        </p:blipFill>
        <p:spPr>
          <a:xfrm>
            <a:off x="0" y="0"/>
            <a:ext cx="1600200" cy="1200240"/>
          </a:xfrm>
          <a:prstGeom prst="rect">
            <a:avLst/>
          </a:prstGeom>
          <a:ln w="19080">
            <a:solidFill>
              <a:srgbClr val="ffcc00"/>
            </a:solidFill>
            <a:miter/>
          </a:ln>
          <a:effectLst>
            <a:outerShdw dist="53966" dir="2700000" blurRad="0" rotWithShape="0">
              <a:srgbClr val="cc9900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88880" y="2438280"/>
            <a:ext cx="43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ьный ответ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5">
            <a:hlinkClick r:id="" action="ppaction://hlinkshowjump?jump=firstslide"/>
          </p:cNvPr>
          <p:cNvSpPr/>
          <p:nvPr/>
        </p:nvSpPr>
        <p:spPr>
          <a:xfrm>
            <a:off x="8077320" y="58672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11778" y="3837"/>
                </a:moveTo>
                <a:lnTo>
                  <a:pt x="14354" y="6448"/>
                </a:lnTo>
                <a:lnTo>
                  <a:pt x="14354" y="4707"/>
                </a:lnTo>
                <a:lnTo>
                  <a:pt x="16130" y="4707"/>
                </a:lnTo>
                <a:lnTo>
                  <a:pt x="16130" y="8224"/>
                </a:lnTo>
                <a:lnTo>
                  <a:pt x="18741" y="10800"/>
                </a:lnTo>
                <a:lnTo>
                  <a:pt x="17087" y="10800"/>
                </a:lnTo>
                <a:lnTo>
                  <a:pt x="17087" y="17989"/>
                </a:lnTo>
                <a:lnTo>
                  <a:pt x="6469" y="17989"/>
                </a:lnTo>
                <a:lnTo>
                  <a:pt x="6469" y="10800"/>
                </a:lnTo>
                <a:lnTo>
                  <a:pt x="4815" y="10800"/>
                </a:lnTo>
                <a:close/>
              </a:path>
              <a:path fill="darkenLess" w="23556" h="21600">
                <a:moveTo>
                  <a:pt x="14354" y="6448"/>
                </a:moveTo>
                <a:lnTo>
                  <a:pt x="14354" y="4707"/>
                </a:lnTo>
                <a:lnTo>
                  <a:pt x="16130" y="4707"/>
                </a:lnTo>
                <a:lnTo>
                  <a:pt x="16130" y="8224"/>
                </a:lnTo>
                <a:close/>
              </a:path>
              <a:path fill="darkenLess" w="23556" h="21600">
                <a:moveTo>
                  <a:pt x="10855" y="14299"/>
                </a:moveTo>
                <a:lnTo>
                  <a:pt x="12701" y="14299"/>
                </a:lnTo>
                <a:lnTo>
                  <a:pt x="12701" y="17989"/>
                </a:lnTo>
                <a:lnTo>
                  <a:pt x="17087" y="17989"/>
                </a:lnTo>
                <a:lnTo>
                  <a:pt x="17087" y="10800"/>
                </a:lnTo>
                <a:lnTo>
                  <a:pt x="6469" y="10800"/>
                </a:lnTo>
                <a:lnTo>
                  <a:pt x="6469" y="17989"/>
                </a:lnTo>
                <a:lnTo>
                  <a:pt x="10855" y="1798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59:44Z</dcterms:created>
  <dc:creator>Gala</dc:creator>
  <dc:description/>
  <dc:language>en-US</dc:language>
  <cp:lastModifiedBy>Пользователь Windows</cp:lastModifiedBy>
  <dcterms:modified xsi:type="dcterms:W3CDTF">2014-11-22T17:36:07Z</dcterms:modified>
  <cp:revision>9</cp:revision>
  <dc:subject/>
  <dc:title>Презентация PowerPoint</dc:title>
</cp:coreProperties>
</file>