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EDF-F8D4-4CB3-93D2-76FB8D93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AD7-C3B8-44CB-AD68-58721E0B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360-17A9-4C56-8FDD-9D89C6A1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BF1-09E7-42B7-B92B-5E9AFB11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C2C2-DBCE-42C2-8710-60FA0658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1885-ADFC-4468-BDC8-81C09A8B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5B16-9EF1-411D-AE1B-9E375FC7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CA11-2D2B-44D0-AA65-C31FDB55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4E01-ED3B-4DA6-9D82-1427A17D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D772-A542-4716-A561-D711A97F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9BF1-193D-4DB3-AB48-43E7C481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781-9D6E-4EDE-8368-0B66C309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2008-DB42-47C0-804B-B575B103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05A8-01EA-403B-9EF1-55268F0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0D70-D9DD-46C4-B0D6-107EB9BE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25DA-617D-42C5-82B7-0E6775B2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82E6-6487-459E-8124-D9CE6708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D2E-17E1-4937-A261-90A4ED0B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B4D-D208-4407-B0BA-BAC8618D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356-F94F-46D9-867A-D7EF2079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5A7-1933-44B2-9CFA-45DF971B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BF9-75A0-4EEE-A7D3-3F48968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B1E-664C-4FEB-99B3-175DB5DF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5BC-89CA-48D3-9AD0-B58362D1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AB2-030A-4098-B27F-6DA7551C4A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2745-6677-4386-A2F4-9FEDE3EBA2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Русский язык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 4 класс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Образовательная система «Школа 2100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резентации :Суркова Ирина Григорьевна, учитель начальных классов ГБОУ СОШ № 184 Г. Санкт- 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о…нце,   ласк..вое,  л…ска…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…сульки,  растут, пр..зрач..ные, плач..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руч…и, журч…т, б…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к..раблик, сп..ш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, поч..ки, м..л…дые, листоч..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цв…ты, перв..цве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ра..ка, м…л…д…ньки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…талины, по..в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нце,   лас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ое,  л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ульки,  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тут, п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зр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чн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ые, плач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руч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и, журч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, б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раблик, сп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ш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чк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и, м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дые, лист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чк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ц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ы, пер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цве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р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ка, м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ньки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алины, п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в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826920" y="1700280"/>
            <a:ext cx="7437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Я понял, чт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ыло интересно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 меня получилось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На следующем урок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42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«Понятие о типе речи- рассуждени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Тема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195640" y="476280"/>
            <a:ext cx="5256000" cy="936720"/>
          </a:xfrm>
          <a:prstGeom prst="rect">
            <a:avLst/>
          </a:prstGeom>
          <a:gradFill rotWithShape="0">
            <a:gsLst>
              <a:gs pos="0">
                <a:srgbClr val="727256"/>
              </a:gs>
              <a:gs pos="50000">
                <a:srgbClr val="cccc99"/>
              </a:gs>
              <a:gs pos="100000">
                <a:srgbClr val="72725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Текст-расс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50920" y="1916280"/>
            <a:ext cx="2952720" cy="1439640"/>
          </a:xfrm>
          <a:prstGeom prst="rect">
            <a:avLst/>
          </a:prstGeom>
          <a:gradFill rotWithShape="0">
            <a:gsLst>
              <a:gs pos="0">
                <a:srgbClr val="727256"/>
              </a:gs>
              <a:gs pos="50000">
                <a:srgbClr val="cccc99"/>
              </a:gs>
              <a:gs pos="100000">
                <a:srgbClr val="72725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ъясня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казыв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867280" y="1916280"/>
            <a:ext cx="2952720" cy="1439640"/>
          </a:xfrm>
          <a:prstGeom prst="rect">
            <a:avLst/>
          </a:prstGeom>
          <a:gradFill rotWithShape="0">
            <a:gsLst>
              <a:gs pos="0">
                <a:srgbClr val="727256"/>
              </a:gs>
              <a:gs pos="50000">
                <a:srgbClr val="cccc99"/>
              </a:gs>
              <a:gs pos="100000">
                <a:srgbClr val="72725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492360" y="1987560"/>
            <a:ext cx="2160720" cy="1297080"/>
          </a:xfrm>
          <a:prstGeom prst="leftRightArrow">
            <a:avLst>
              <a:gd name="adj1" fmla="val 50000"/>
              <a:gd name="adj2" fmla="val 33162"/>
            </a:avLst>
          </a:prstGeom>
          <a:gradFill rotWithShape="0">
            <a:gsLst>
              <a:gs pos="0">
                <a:srgbClr val="727256"/>
              </a:gs>
              <a:gs pos="50000">
                <a:srgbClr val="cccc99"/>
              </a:gs>
              <a:gs pos="100000">
                <a:srgbClr val="72725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а-свя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3132000" y="3645000"/>
            <a:ext cx="288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тому ч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2411280" y="479736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ак к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5076720" y="4797360"/>
            <a:ext cx="12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021680" y="1916280"/>
            <a:ext cx="36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70c0"/>
                </a:solidFill>
                <a:uFillTx/>
                <a:latin typeface="Comic Sans MS"/>
              </a:rPr>
              <a:t>Почем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935240" y="3141720"/>
            <a:ext cx="336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70c0"/>
                </a:solidFill>
                <a:uFillTx/>
                <a:latin typeface="Comic Sans MS"/>
              </a:rPr>
              <a:t>Отчег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375200" y="4508640"/>
            <a:ext cx="309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70c0"/>
                </a:solidFill>
                <a:uFillTx/>
                <a:latin typeface="Comic Sans MS"/>
              </a:rPr>
              <a:t>Заче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195640" y="476280"/>
            <a:ext cx="5256000" cy="936720"/>
          </a:xfrm>
          <a:prstGeom prst="rect">
            <a:avLst/>
          </a:prstGeom>
          <a:gradFill rotWithShape="0">
            <a:gsLst>
              <a:gs pos="0">
                <a:srgbClr val="727256"/>
              </a:gs>
              <a:gs pos="50000">
                <a:srgbClr val="cccc99"/>
              </a:gs>
              <a:gs pos="100000">
                <a:srgbClr val="72725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Текст-расс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3"/>
          <p:cNvSpPr txBox="1"/>
          <p:nvPr/>
        </p:nvSpPr>
        <p:spPr>
          <a:xfrm>
            <a:off x="3780000" y="3357720"/>
            <a:ext cx="158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з-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611280" y="4149720"/>
            <a:ext cx="252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это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3708360" y="4149720"/>
            <a:ext cx="4826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ледовате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492360" y="1916280"/>
            <a:ext cx="2160720" cy="1296720"/>
          </a:xfrm>
          <a:prstGeom prst="leftRightArrow">
            <a:avLst>
              <a:gd name="adj1" fmla="val 50000"/>
              <a:gd name="adj2" fmla="val 33171"/>
            </a:avLst>
          </a:prstGeom>
          <a:gradFill rotWithShape="0">
            <a:gsLst>
              <a:gs pos="0">
                <a:srgbClr val="727256"/>
              </a:gs>
              <a:gs pos="50000">
                <a:srgbClr val="cccc99"/>
              </a:gs>
              <a:gs pos="100000">
                <a:srgbClr val="72725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а-свя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79280" y="1989000"/>
            <a:ext cx="2952720" cy="1440000"/>
          </a:xfrm>
          <a:prstGeom prst="rect">
            <a:avLst/>
          </a:prstGeom>
          <a:gradFill rotWithShape="0">
            <a:gsLst>
              <a:gs pos="0">
                <a:srgbClr val="727256"/>
              </a:gs>
              <a:gs pos="50000">
                <a:srgbClr val="cccc99"/>
              </a:gs>
              <a:gs pos="100000">
                <a:srgbClr val="72725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ъясня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казыв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012000" y="1989000"/>
            <a:ext cx="2952720" cy="1440000"/>
          </a:xfrm>
          <a:prstGeom prst="rect">
            <a:avLst/>
          </a:prstGeom>
          <a:gradFill rotWithShape="0">
            <a:gsLst>
              <a:gs pos="0">
                <a:srgbClr val="727256"/>
              </a:gs>
              <a:gs pos="50000">
                <a:srgbClr val="cccc99"/>
              </a:gs>
              <a:gs pos="100000">
                <a:srgbClr val="72725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9"/>
          <p:cNvSpPr txBox="1"/>
          <p:nvPr/>
        </p:nvSpPr>
        <p:spPr>
          <a:xfrm>
            <a:off x="684360" y="5157720"/>
            <a:ext cx="37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т поч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5219640" y="5229360"/>
            <a:ext cx="223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нач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8.67052E-007 L 0.63403 -8.67052E-007 E">
                                      <p:cBhvr>
                                        <p:cTn id="8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-8.67052E-007 L -0.64566 -8.67052E-007 E">
                                      <p:cBhvr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84360" y="17002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Люди стали давно строить дома из кирпича. Во- первых, кирпич не горит, воды не боится. В самый сильный мороз не трескается. Во-вторых, в кирпичном доме тепло зимой, летом прохладно. И наконец, кирпичи делают их глины и песка – они почти повсюду найдутся, везде под ру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84360" y="17002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Люди стали давно строить дома из кирпича.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Во-первы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кирпич не горит, воды не боится. В самый сильный мороз не трескается.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Во-вторы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в кирпичном доме тепло зимой, летом прохладно. И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наконец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кирпичи делают их глины и песка – они почти повсюду найдутся, везде под ру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826920" y="1700280"/>
            <a:ext cx="7437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 что люди любят вес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чему говорят, что весна- «красна»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то мы ждем от вес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640" y="2060280"/>
            <a:ext cx="77724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Times New Roman"/>
              </a:rPr>
              <a:t>Вот и весна пришл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Times New Roman"/>
              </a:rPr>
              <a:t>Весн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Times New Roman"/>
              </a:rPr>
              <a:t>Красавица весн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9:37:09Z</dcterms:created>
  <dc:creator>Кабинет воспитания</dc:creator>
  <dc:description/>
  <dc:language>en-US</dc:language>
  <cp:lastModifiedBy>Пользователь Windows</cp:lastModifiedBy>
  <dcterms:modified xsi:type="dcterms:W3CDTF">2014-11-22T16:40:45Z</dcterms:modified>
  <cp:revision>25</cp:revision>
  <dc:subject/>
  <dc:title>Системно-деятельностный подход в воспитании: осмысление возможностей</dc:title>
</cp:coreProperties>
</file>